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notesSlide29.xml" ContentType="application/vnd.openxmlformats-officedocument.presentationml.notesSlid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png" ContentType="image/png"/>
  <Override PartName="/ppt/media/image1.png" ContentType="image/png"/>
  <Override PartName="/ppt/media/image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18.png" ContentType="image/pn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BA57A-B7AF-46DB-91FF-FE6254FABEC8}" type="slidenum">
              <a:rPr b="0" lang="pl-PL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wukrotnie otrzymała Nagrodę Nob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472D7-FC2A-421E-873C-1794C1DA3E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CA109-1447-4F39-84DA-EF0D71E7B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64D4-D7A2-4CCF-B080-EA92639EA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288D3-F466-4B32-BB98-EC6F71C7DB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08C4D7-A868-4D45-ABE7-484675A6ED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0820-0D74-4B7C-904D-E1087D969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55DACA-79F9-487C-9FC3-8C647417E7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5EBB0-34D0-43A9-BDAC-1E79DFB5D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DA3C56-FD6D-48A8-967C-0C0192BE4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462A4F-D5D9-4243-85C0-8EA2D1B58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4D269-97CE-4AE0-9243-D9AA816CE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7218B-DD6E-4988-A96A-8820887CF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584A5-19B9-4B73-B332-9431EF9B9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6AC8F-2A28-44AA-8E94-87D301326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BBB01D-D2F0-4D3C-A8A1-15C4974DF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1298C-7C00-4350-8FEF-232C52D987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43C38A-0A3E-4EF8-9B52-5ECD2F519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D57D0-3B28-4E19-8F8C-8B8D040F7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6C7C5-4F70-4ABC-88AB-8037E956E7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7F6A8-B895-4D70-A908-7282229A4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51C35-D580-474F-A725-B9D62328E9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BB8D5-402F-4684-AA3E-B19E2FEDF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7F3E1-FE3B-49E3-955E-C6AF30B12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4728B-D921-4E5A-BD68-0288BA6BD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D79FF1-21FB-4767-B797-5210CE525BEE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DB2C5-35C9-4ED6-AE2A-6AB5178D4283}" type="slidenum">
              <a:rPr b="0" lang="pl-PL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vid.pl/php/ksiazki/detale.php3?l_p=&amp;id_a=&amp;l=&amp;la=&amp;pp=1&amp;id=506095" TargetMode="External"/><Relationship Id="rId3" Type="http://schemas.openxmlformats.org/officeDocument/2006/relationships/hyperlink" Target="http://vivid.pl/php/ksiazki/detale.php3?l_p=&amp;id_a=&amp;l=&amp;la=&amp;pp=1&amp;id=506096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image" Target="../media/image19.png"/><Relationship Id="rId4" Type="http://schemas.openxmlformats.org/officeDocument/2006/relationships/slideLayout" Target="../slideLayouts/slideLayout5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vivid.pl/php/ksiazki/detale.php3?l_p=&amp;id_a=&amp;l=&amp;la=&amp;pp=1&amp;id=508960" TargetMode="External"/><Relationship Id="rId3" Type="http://schemas.openxmlformats.org/officeDocument/2006/relationships/hyperlink" Target="http://vivid.pl/php/ksiazki/detale.php3?l_p=&amp;id_a=&amp;l=&amp;la=&amp;pp=1&amp;id=508957" TargetMode="External"/><Relationship Id="rId4" Type="http://schemas.openxmlformats.org/officeDocument/2006/relationships/hyperlink" Target="http://vivid.pl/php/ksiazki/detale.php3?l_p=&amp;id_a=&amp;l=&amp;la=&amp;pp=1&amp;id=523350" TargetMode="External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Polscy laureaci Nagrody Nobl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660033"/>
                </a:solidFill>
                <a:latin typeface="Phyllis CE"/>
              </a:rPr>
              <a:t>Prezentacja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12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5000" spc="-1" strike="noStrike">
                <a:solidFill>
                  <a:srgbClr val="660033"/>
                </a:solidFill>
                <a:latin typeface="Phyllis CE"/>
              </a:rPr>
              <a:t>multimedialna przygotowana przez nauczycielkę języka polskiego Bożenę Szwed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zieł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     „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gniem i mieczem" (1884) 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Potop" (1886) </a:t>
            </a:r>
            <a:r>
              <a:rPr b="0" lang="en-US" sz="26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Pan Wołodyjowski"  (1888)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Bez dogmatu" (1891) - powieść 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Rodzina Połanieckich" (1895) 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Quo vadis" (1896) 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Krzyżacy"(1900) 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Na polu chwały" (1905) 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Wiry" (1910) - powieść polityczna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W pustyni i w puszczy" (1911)  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      "Legiony" (1914)</a:t>
            </a:r>
            <a:br>
              <a:rPr sz="2600"/>
            </a:br>
            <a:r>
              <a:rPr b="0" lang="en-US" sz="2600" spc="-1" strike="noStrike" u="sng">
                <a:solidFill>
                  <a:srgbClr val="000000"/>
                </a:solidFill>
                <a:uFillTx/>
                <a:latin typeface="Verdana"/>
              </a:rPr>
              <a:t>  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Władysław Stanisław Reymont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68360" y="1557360"/>
            <a:ext cx="82072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cc0000"/>
                </a:solidFill>
                <a:latin typeface="Verdana"/>
              </a:rPr>
              <a:t>Nagrodę Nobla otrzymał w 1924 roku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1547640" y="2924280"/>
            <a:ext cx="2953080" cy="29178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3"/>
          <a:stretch/>
        </p:blipFill>
        <p:spPr>
          <a:xfrm>
            <a:off x="5967360" y="3211560"/>
            <a:ext cx="1541520" cy="18129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4" dur="2000" fill="hold"/>
                                        <p:tgtEl>
                                          <p:spTgt spid="119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78" dur="2000" fill="hold"/>
                                        <p:tgtEl>
                                          <p:spTgt spid="120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cc0000"/>
                </a:solidFill>
                <a:latin typeface="Verdana"/>
              </a:rPr>
              <a:t>Z UZASADNIENIA NAGRODY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rzymał ją za wybitny epos narodowy, powieść "Chłopi"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ładysław Stanisław Reymon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KT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wieściopisarz i nowelista</a:t>
            </a:r>
            <a:br>
              <a:rPr sz="3000"/>
            </a:br>
            <a:r>
              <a:rPr b="0" i="1" lang="en-US" sz="3000" spc="-1" strike="noStrike">
                <a:solidFill>
                  <a:srgbClr val="ff6600"/>
                </a:solidFill>
                <a:latin typeface="Verdana"/>
              </a:rPr>
              <a:t>NARODOWOŚĆ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lska</a:t>
            </a:r>
            <a:br>
              <a:rPr sz="3000"/>
            </a:br>
            <a:r>
              <a:rPr b="0" i="1" lang="en-US" sz="3000" spc="-1" strike="noStrike">
                <a:solidFill>
                  <a:srgbClr val="006600"/>
                </a:solidFill>
                <a:latin typeface="Verdana"/>
              </a:rPr>
              <a:t>URODZON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6 maja 1867, we wsi Kobiele Wielkie (gubernia piotrkowska)</a:t>
            </a:r>
            <a:br>
              <a:rPr sz="3000"/>
            </a:br>
            <a:r>
              <a:rPr b="0" i="1" lang="en-US" sz="3000" spc="-1" strike="noStrike">
                <a:solidFill>
                  <a:srgbClr val="660033"/>
                </a:solidFill>
                <a:latin typeface="Verdana"/>
              </a:rPr>
              <a:t>ZMARŁ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5 grudnia 1925, Warszawa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999"/>
                </a:solidFill>
                <a:latin typeface="Renfrew"/>
              </a:rPr>
              <a:t>Dzieła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Wigilia Bożego Narodzenia" (1892) - nowel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Pielgrzymka do Jasnej Góry" (1894) - reportaż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Komediantka" (1896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Fermenty" (1897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Ziemia obiecana" (1899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Chłopi" (1902 - 1909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Marzyciel" (1910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'Wampir" (1911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Rok 1794" (1914-1918) - trylogia  historyczn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Z ziemi chełmskiej" (1909) - reportaż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2627280" y="38160"/>
            <a:ext cx="4305240" cy="68198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ff3300"/>
                </a:solidFill>
                <a:latin typeface="Perpetua"/>
              </a:rPr>
              <a:t>Czesław Miłosz 1980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Nagrodę Nobla otrzymał w 1980 roku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2"/>
          <a:stretch/>
        </p:blipFill>
        <p:spPr>
          <a:xfrm>
            <a:off x="2843280" y="2924280"/>
            <a:ext cx="3024000" cy="28810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79" dur="indefinite" restart="never" nodeType="tmRoot">
          <p:childTnLst>
            <p:seq>
              <p:cTn id="80" dur="indefinite" nodeType="mainSeq">
                <p:childTnLst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Z UZASADNIENIA NAGROD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rzymał ją za całokształt twórczości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33" name="" descr="CZESŁAW MIŁOSZ"/>
          <p:cNvPicPr/>
          <p:nvPr/>
        </p:nvPicPr>
        <p:blipFill>
          <a:blip r:embed="rId2"/>
          <a:stretch/>
        </p:blipFill>
        <p:spPr>
          <a:xfrm>
            <a:off x="3203640" y="2852640"/>
            <a:ext cx="2609640" cy="36007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0" spc="-1" strike="noStrike">
                <a:solidFill>
                  <a:srgbClr val="006600"/>
                </a:solidFill>
                <a:latin typeface="Chicago"/>
              </a:rPr>
              <a:t>Czesław  Miłosz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KT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eta i eseista</a:t>
            </a:r>
            <a:br>
              <a:rPr sz="3000"/>
            </a:br>
            <a:r>
              <a:rPr b="0" i="1" lang="en-US" sz="3000" spc="-1" strike="noStrike">
                <a:solidFill>
                  <a:srgbClr val="ff3300"/>
                </a:solidFill>
                <a:latin typeface="Verdana"/>
              </a:rPr>
              <a:t>NARODOWOŚĆ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lska</a:t>
            </a:r>
            <a:br>
              <a:rPr sz="3000"/>
            </a:br>
            <a:r>
              <a:rPr b="0" i="1" lang="en-US" sz="3000" spc="-1" strike="noStrike">
                <a:solidFill>
                  <a:srgbClr val="006600"/>
                </a:solidFill>
                <a:latin typeface="Verdana"/>
              </a:rPr>
              <a:t>URODZON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30 czerwca 1911, Szetejnie (Litwa)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           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zesław Miłos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en-US" sz="2600" spc="-1" strike="noStrike">
                <a:solidFill>
                  <a:srgbClr val="003300"/>
                </a:solidFill>
                <a:latin typeface="Verdana"/>
              </a:rPr>
              <a:t>W 1980 r. Czesław Miłosz uhonorowany został literacką Nagrodą Nobla. Scharakteryzowano go jako </a:t>
            </a:r>
            <a:r>
              <a:rPr b="0" i="1" lang="en-US" sz="2600" spc="-1" strike="noStrike">
                <a:solidFill>
                  <a:srgbClr val="003300"/>
                </a:solidFill>
                <a:latin typeface="Verdana"/>
              </a:rPr>
              <a:t>artystę języka, który w życiu pełnym prób i zawiedzionych nadziei użył swoich wyjątkowych talentów i moralnej odwagi, aby przedstawić wymowny komentarz na temat naszej epoki. </a:t>
            </a:r>
            <a:r>
              <a:rPr b="0" lang="en-US" sz="2600" spc="-1" strike="noStrike">
                <a:solidFill>
                  <a:srgbClr val="003300"/>
                </a:solidFill>
                <a:latin typeface="Verdana"/>
              </a:rPr>
              <a:t>Po uzyskaniu Nagrody Nobla aktywność twórcza poety wcale nie zmalała. Wydawał nowe tomiki poetyckie, takie jak: </a:t>
            </a:r>
            <a:r>
              <a:rPr b="1" i="1" lang="en-US" sz="2600" spc="-1" strike="noStrike">
                <a:solidFill>
                  <a:srgbClr val="003300"/>
                </a:solidFill>
                <a:latin typeface="Verdana"/>
              </a:rPr>
              <a:t>Hymn o perle </a:t>
            </a:r>
            <a:r>
              <a:rPr b="1" lang="en-US" sz="2600" spc="-1" strike="noStrike">
                <a:solidFill>
                  <a:srgbClr val="003300"/>
                </a:solidFill>
                <a:latin typeface="Verdana"/>
              </a:rPr>
              <a:t>(1982), </a:t>
            </a:r>
            <a:r>
              <a:rPr b="1" i="1" lang="en-US" sz="2600" spc="-1" strike="noStrike">
                <a:solidFill>
                  <a:srgbClr val="003300"/>
                </a:solidFill>
                <a:latin typeface="Verdana"/>
              </a:rPr>
              <a:t>Nieobjęta ziemia </a:t>
            </a:r>
            <a:r>
              <a:rPr b="1" lang="en-US" sz="2600" spc="-1" strike="noStrike">
                <a:solidFill>
                  <a:srgbClr val="003300"/>
                </a:solidFill>
                <a:latin typeface="Verdana"/>
              </a:rPr>
              <a:t>(1984), </a:t>
            </a:r>
            <a:r>
              <a:rPr b="1" i="1" lang="en-US" sz="2600" spc="-1" strike="noStrike">
                <a:solidFill>
                  <a:srgbClr val="003300"/>
                </a:solidFill>
                <a:latin typeface="Verdana"/>
              </a:rPr>
              <a:t>Kroniki </a:t>
            </a:r>
            <a:r>
              <a:rPr b="1" lang="en-US" sz="2600" spc="-1" strike="noStrike">
                <a:solidFill>
                  <a:srgbClr val="003300"/>
                </a:solidFill>
                <a:latin typeface="Verdana"/>
              </a:rPr>
              <a:t>(1987), </a:t>
            </a:r>
            <a:r>
              <a:rPr b="0" lang="en-US" sz="2600" spc="-1" strike="noStrike">
                <a:solidFill>
                  <a:srgbClr val="003300"/>
                </a:solidFill>
                <a:latin typeface="Verdana"/>
              </a:rPr>
              <a:t>czy</a:t>
            </a:r>
            <a:r>
              <a:rPr b="1" lang="en-US" sz="2600" spc="-1" strike="noStrike">
                <a:solidFill>
                  <a:srgbClr val="003300"/>
                </a:solidFill>
                <a:latin typeface="Verdana"/>
              </a:rPr>
              <a:t> </a:t>
            </a:r>
            <a:r>
              <a:rPr b="1" i="1" lang="en-US" sz="2600" spc="-1" strike="noStrike">
                <a:solidFill>
                  <a:srgbClr val="003300"/>
                </a:solidFill>
                <a:latin typeface="Verdana"/>
              </a:rPr>
              <a:t>Dalsze okolice </a:t>
            </a:r>
            <a:r>
              <a:rPr b="1" lang="en-US" sz="2600" spc="-1" strike="noStrike">
                <a:solidFill>
                  <a:srgbClr val="003300"/>
                </a:solidFill>
                <a:latin typeface="Verdana"/>
              </a:rPr>
              <a:t>(1991)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       </a:t>
            </a: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Polscy nobliści-literatur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1835280" y="2055960"/>
            <a:ext cx="5881680" cy="386532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zieł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„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Kompozycja" (1930) - wiersz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Podróż" (1930) - wiersz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Poemat o czasie zastygłym" (1933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Trzy zimy" (1936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Obrachunki" (nowela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Wiersze" (1940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Pieśń niepodległa" (1942) - antologia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Ocalenie" (1945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Traktat moralny" (1947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Zniewolony umysł" (1953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Zdobycie władzy" (1953) - powieść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Światło dzienne" (1953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Dolina Issy" - powieść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Traktat poetycki" (1957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Rodzinna Europa" (1958)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Kontynenty" (1958) - esej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Verdana"/>
              </a:rPr>
              <a:t>Dzieła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„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Człowiek wśród skorpionów" (1961) - studium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krytyczne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Król Popiel i inne wiersze" (1961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Gucio zaczarowany" (1965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Widzenia nad Zatoką San Francisco" (1969) - zbiór 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esejów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Miasto bez imienia" (1969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Prywatne obowiązki" (1972) - tom szkiców literackich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Gdzie słońce wschodzi i kędy zapada" (1974) - tomik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7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Ziemia Ulro" (1977) - esej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Ogród nauk" (1979) - tom esejów i przekładów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Hymn o perle" (1982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Nieobjęta ziemia° (1984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Kroniki" (1987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Dalsze okolice" (1991) - tomik poetycki</a:t>
            </a:r>
            <a:br>
              <a:rPr sz="1900"/>
            </a:br>
            <a:r>
              <a:rPr b="0" lang="en-US" sz="1900" spc="-1" strike="noStrike">
                <a:solidFill>
                  <a:srgbClr val="000000"/>
                </a:solidFill>
                <a:latin typeface="Verdana"/>
              </a:rPr>
              <a:t>      "Zaczynając od moich ulic" (1985) - zbiór esejów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6600"/>
                </a:solidFill>
                <a:latin typeface="Verdana"/>
              </a:rPr>
              <a:t>Dzieła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Metafizyczna pauza" (1989) - zbiór esejów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Poszukiwanie ojczyzny" (1991) - zbiór esejów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Rok myśliwego" (1991) - dziennik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Na brzegu rzeki" (1994) - tomik poetycki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Szukanie ojczyzny" (1992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Legendy nowoczesności" (1996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Życie na wyspach" (1997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Piesek przydrożny" (1997) - proza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Abecadło Miłosza" (1997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Inne Abecadło" (1998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Wyprawa w dwudziestolecie" (1999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To" - tomik poetycki (2000)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Druga przestrzeń" - tomik poetycki (2002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993300"/>
                </a:solidFill>
                <a:latin typeface="IndianaSolid"/>
              </a:rPr>
              <a:t>Wisława Szymborska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799308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agrodę Nobla otrzymała w 1996 roku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/>
          <a:stretch/>
        </p:blipFill>
        <p:spPr>
          <a:xfrm>
            <a:off x="4643280" y="2852640"/>
            <a:ext cx="2808360" cy="2749680"/>
          </a:xfrm>
          <a:prstGeom prst="rect">
            <a:avLst/>
          </a:prstGeom>
          <a:ln w="0">
            <a:noFill/>
          </a:ln>
        </p:spPr>
      </p:pic>
      <p:pic>
        <p:nvPicPr>
          <p:cNvPr id="147" name="" descr="WISŁAWA SZYMBORSKA"/>
          <p:cNvPicPr/>
          <p:nvPr/>
        </p:nvPicPr>
        <p:blipFill>
          <a:blip r:embed="rId3"/>
          <a:stretch/>
        </p:blipFill>
        <p:spPr>
          <a:xfrm>
            <a:off x="1276200" y="2932200"/>
            <a:ext cx="2314800" cy="2543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106" dur="2000" fill="hold"/>
                                        <p:tgtEl>
                                          <p:spTgt spid="14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66ff"/>
                </a:solidFill>
                <a:latin typeface="Verdana"/>
              </a:rPr>
              <a:t>Z UZASADNIENIA NAGRODY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   </a:t>
            </a: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Otrzymała ją za  "poezję,             </a:t>
            </a: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	</a:t>
            </a: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która z ironiczną precyzją pozwala  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        </a:t>
            </a: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historycznemu i biologicznemu 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        </a:t>
            </a: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kontekstowi ukazać się we fragmentach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        </a:t>
            </a:r>
            <a:r>
              <a:rPr b="0" lang="en-US" sz="3000" spc="-1" strike="noStrike">
                <a:solidFill>
                  <a:srgbClr val="990033"/>
                </a:solidFill>
                <a:latin typeface="Old English CE"/>
              </a:rPr>
              <a:t>ludzkiej rzeczywistości”.</a:t>
            </a:r>
            <a:br>
              <a:rPr sz="3000"/>
            </a:b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468360" y="475920"/>
            <a:ext cx="822960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Nagroda Nobla dla polskiej poetki nie</a:t>
            </a: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 </a:t>
            </a: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była niespodzianką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00"/>
                </a:solidFill>
                <a:latin typeface="Verdana"/>
              </a:rPr>
              <a:t>Od lat należała do grona ścisłych jej faworytów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Jej poezja znalazła uznanie nie tylko krytyków literackich i badaczy literatury, lecz również czytelników, co nie zawsze idzie w parz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09999"/>
                </a:solidFill>
                <a:latin typeface="Mystical"/>
              </a:rPr>
              <a:t>        </a:t>
            </a:r>
            <a:r>
              <a:rPr b="0" lang="en-US" sz="5000" spc="-1" strike="noStrike">
                <a:solidFill>
                  <a:srgbClr val="009999"/>
                </a:solidFill>
                <a:latin typeface="Mystical"/>
              </a:rPr>
              <a:t>Wisława    Szymborska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cc"/>
                </a:solidFill>
                <a:latin typeface="Verdana"/>
              </a:rPr>
              <a:t>KT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etka i eseistka</a:t>
            </a:r>
            <a:br>
              <a:rPr sz="3000"/>
            </a:br>
            <a:r>
              <a:rPr b="0" i="1" lang="en-US" sz="3000" spc="-1" strike="noStrike">
                <a:solidFill>
                  <a:srgbClr val="ff6600"/>
                </a:solidFill>
                <a:latin typeface="Verdana"/>
              </a:rPr>
              <a:t>NARODOWOŚĆ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lska</a:t>
            </a:r>
            <a:br>
              <a:rPr sz="3000"/>
            </a:br>
            <a:r>
              <a:rPr b="0" i="1" lang="en-US" sz="3000" spc="-1" strike="noStrike">
                <a:solidFill>
                  <a:srgbClr val="006600"/>
                </a:solidFill>
                <a:latin typeface="Verdana"/>
              </a:rPr>
              <a:t>URODZONA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2 lipca 1923 w Bninie pod Poznaniem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3366"/>
                </a:solidFill>
                <a:latin typeface="Switzerland"/>
              </a:rPr>
              <a:t>Dzieła</a:t>
            </a:r>
            <a:endParaRPr b="0" lang="en-US" sz="6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Verdana"/>
              </a:rPr>
              <a:t>     </a:t>
            </a:r>
            <a:r>
              <a:rPr b="0" i="1" lang="en-US" sz="1800" spc="-1" strike="noStrike">
                <a:solidFill>
                  <a:srgbClr val="ff3300"/>
                </a:solidFill>
                <a:latin typeface="Verdana"/>
              </a:rPr>
              <a:t> 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"Dlatego żyjemy" (1952)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Pytania zadawane sobie" (1954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Wołanie do Yeti" (1957)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Sól" (1962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Sto pociech" (1967)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Wszelki wypadek" (1972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Wielka liczba" (1976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Ludzie na moście" (1986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Początek i koniec" (1993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Widok z ziarnkiem piasku" (1996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Lektury nadobowiązkowe" (1992) 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Sto wierszy - sto pociech" (1997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Wiersze wybrane" (2000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Poczta literacka, czyli jak zostać (lub nie zostać) 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       </a:t>
            </a: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pisarzem" (2000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      "Chwila" (2002)</a:t>
            </a:r>
            <a:br>
              <a:rPr sz="1800"/>
            </a:br>
            <a:r>
              <a:rPr b="1" lang="en-US" sz="1800" spc="-1" strike="noStrike">
                <a:solidFill>
                  <a:srgbClr val="ff33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ECH  WAŁĘS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 algn="ctr">
              <a:lnSpc>
                <a:spcPct val="80000"/>
              </a:lnSpc>
              <a:spcBef>
                <a:spcPts val="9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3300"/>
                </a:solidFill>
                <a:latin typeface="Verdana"/>
              </a:rPr>
              <a:t>Pokojową Nagrodę Nobla otrzymał w 1983 r.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2"/>
          <a:stretch/>
        </p:blipFill>
        <p:spPr>
          <a:xfrm>
            <a:off x="2987640" y="2819520"/>
            <a:ext cx="2324160" cy="335268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66"/>
                </a:solidFill>
                <a:latin typeface="Verdana"/>
              </a:rPr>
              <a:t>Maria Skłodowska – Curie</a:t>
            </a: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2"/>
          <a:stretch/>
        </p:blipFill>
        <p:spPr>
          <a:xfrm>
            <a:off x="2286000" y="3962520"/>
            <a:ext cx="1523880" cy="1828800"/>
          </a:xfrm>
          <a:prstGeom prst="rect">
            <a:avLst/>
          </a:prstGeom>
          <a:ln w="0">
            <a:noFill/>
          </a:ln>
        </p:spPr>
      </p:pic>
      <p:pic>
        <p:nvPicPr>
          <p:cNvPr id="160" name="" descr=""/>
          <p:cNvPicPr/>
          <p:nvPr/>
        </p:nvPicPr>
        <p:blipFill>
          <a:blip r:embed="rId3"/>
          <a:stretch/>
        </p:blipFill>
        <p:spPr>
          <a:xfrm>
            <a:off x="5257800" y="3962520"/>
            <a:ext cx="1523880" cy="1828800"/>
          </a:xfrm>
          <a:prstGeom prst="rect">
            <a:avLst/>
          </a:prstGeom>
          <a:ln w="0">
            <a:noFill/>
          </a:ln>
        </p:spPr>
      </p:pic>
      <p:sp>
        <p:nvSpPr>
          <p:cNvPr id="161" name=""/>
          <p:cNvSpPr/>
          <p:nvPr/>
        </p:nvSpPr>
        <p:spPr>
          <a:xfrm>
            <a:off x="609480" y="2057400"/>
            <a:ext cx="784872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Dwukrotnie otrzymała nagrodę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W 1903r. wraz z mężem z fizyki za badania nad zjawiskiem promieniotwórczości naturalnej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Verdana"/>
              </a:rPr>
              <a:t>W 1911r. z chemii za wydzielenie czystego radu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33"/>
                </a:solidFill>
                <a:latin typeface="SwitzerlandLight"/>
              </a:rPr>
              <a:t>         </a:t>
            </a:r>
            <a:r>
              <a:rPr b="0" lang="en-US" sz="5000" spc="-1" strike="noStrike">
                <a:solidFill>
                  <a:srgbClr val="660033"/>
                </a:solidFill>
                <a:latin typeface="SwitzerlandLight"/>
              </a:rPr>
              <a:t>Fundacja Nobla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„</a:t>
            </a:r>
            <a:r>
              <a:rPr b="0" lang="en-US" sz="2100" spc="-1" strike="noStrike">
                <a:solidFill>
                  <a:srgbClr val="6600ff"/>
                </a:solidFill>
                <a:latin typeface="Verdana"/>
              </a:rPr>
              <a:t>Ja niżej podpisany, Alfred Nobel, oświadczam niniejszym, po długiej rozwadze, iż moja ostatnia wola odnośnie majątku, jest następująca: Wszystkie pozostałe po mnie, możliwe do zrealizowania aktywa, mają być rozdysponowane w sposób następujący: kapitał zostanie przez egzekutorów ulokowany bezpiecznie w papierach, tworzących fundusz, którego procenty każdego roku mają być rozdzielone w formie nagród tym, którzy w roku poprzedzającym przynieśli ludzkości największe korzyści.[...]”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k Sienkiewicz 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3300"/>
                </a:solidFill>
                <a:latin typeface="Verdana"/>
              </a:rPr>
              <a:t>Nagrodę Nobla otrzymał w 1905 roku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979640" y="2565360"/>
            <a:ext cx="4392720" cy="403236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6600ff"/>
                </a:solidFill>
                <a:latin typeface="Verdana"/>
              </a:rPr>
              <a:t>Z UZASADNIENIA NAGRODY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trzymał ją za "wybitne osiągnięcia w dziedzinie eposu" i - jak podkreślił jeden z jurorów – "rzadko spotykany geniusz, który wcielił w siebie ducha narodu".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Henryk Sienkiewicz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66ff"/>
                </a:solidFill>
                <a:latin typeface="Verdana"/>
              </a:rPr>
              <a:t>W swoim odczycie noblowskim laureat powiedział, że choć Polska uważana jest za martwą i pogrzebaną, to jednak dzięki jego nagrodzie dała ona świadectwo swej sile przetrwania i woli zwycięstwa.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Zdjęcia Henryka Sienkiewic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05" name="" descr="Henryk Sienkiewicz"/>
          <p:cNvPicPr/>
          <p:nvPr/>
        </p:nvPicPr>
        <p:blipFill>
          <a:blip r:embed="rId2"/>
          <a:stretch/>
        </p:blipFill>
        <p:spPr>
          <a:xfrm>
            <a:off x="900000" y="2637000"/>
            <a:ext cx="952560" cy="136188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Henryk Sienkiewicz"/>
          <p:cNvPicPr/>
          <p:nvPr/>
        </p:nvPicPr>
        <p:blipFill>
          <a:blip r:embed="rId3"/>
          <a:stretch/>
        </p:blipFill>
        <p:spPr>
          <a:xfrm>
            <a:off x="2484360" y="2781360"/>
            <a:ext cx="952560" cy="13618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Henryk Sienkiewicz"/>
          <p:cNvPicPr/>
          <p:nvPr/>
        </p:nvPicPr>
        <p:blipFill>
          <a:blip r:embed="rId4"/>
          <a:stretch/>
        </p:blipFill>
        <p:spPr>
          <a:xfrm>
            <a:off x="4356000" y="2276640"/>
            <a:ext cx="952560" cy="136188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Henryk Sienkiewicz"/>
          <p:cNvPicPr/>
          <p:nvPr/>
        </p:nvPicPr>
        <p:blipFill>
          <a:blip r:embed="rId5"/>
          <a:stretch/>
        </p:blipFill>
        <p:spPr>
          <a:xfrm>
            <a:off x="5651640" y="2060640"/>
            <a:ext cx="952200" cy="136188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Henryk Sienkiewicz"/>
          <p:cNvPicPr/>
          <p:nvPr/>
        </p:nvPicPr>
        <p:blipFill>
          <a:blip r:embed="rId6"/>
          <a:stretch/>
        </p:blipFill>
        <p:spPr>
          <a:xfrm>
            <a:off x="7164360" y="2060640"/>
            <a:ext cx="952560" cy="13618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Henryk Sienkiewicz"/>
          <p:cNvPicPr/>
          <p:nvPr/>
        </p:nvPicPr>
        <p:blipFill>
          <a:blip r:embed="rId7"/>
          <a:stretch/>
        </p:blipFill>
        <p:spPr>
          <a:xfrm>
            <a:off x="2700360" y="4292640"/>
            <a:ext cx="1714320" cy="2381040"/>
          </a:xfrm>
          <a:prstGeom prst="rect">
            <a:avLst/>
          </a:prstGeom>
          <a:ln w="0">
            <a:noFill/>
          </a:ln>
        </p:spPr>
      </p:pic>
    </p:spTree>
  </p:cSld>
  <p:transition>
    <p:checker dir="vert"/>
  </p:transition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3300"/>
                </a:solidFill>
                <a:latin typeface="Pioneer ITC CE"/>
              </a:rPr>
              <a:t>Henryk Sienkiewicz</a:t>
            </a:r>
            <a:endParaRPr b="0" lang="en-US" sz="5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66ff"/>
                </a:solidFill>
                <a:latin typeface="Verdana"/>
              </a:rPr>
              <a:t>KTO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wieściopisarz, publicysta </a:t>
            </a:r>
            <a:br>
              <a:rPr sz="3000"/>
            </a:br>
            <a:r>
              <a:rPr b="0" i="1" lang="en-US" sz="3000" spc="-1" strike="noStrike">
                <a:solidFill>
                  <a:srgbClr val="ff3300"/>
                </a:solidFill>
                <a:latin typeface="Verdana"/>
              </a:rPr>
              <a:t>NARODOWOŚĆ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polska</a:t>
            </a:r>
            <a:br>
              <a:rPr sz="3000"/>
            </a:br>
            <a:r>
              <a:rPr b="0" i="1" lang="en-US" sz="3000" spc="-1" strike="noStrike">
                <a:solidFill>
                  <a:srgbClr val="006600"/>
                </a:solidFill>
                <a:latin typeface="Verdana"/>
              </a:rPr>
              <a:t>URODZONY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5 maja 1846 w Woli Okrzejskiej (Podlasie)</a:t>
            </a:r>
            <a:br>
              <a:rPr sz="3000"/>
            </a:br>
            <a:r>
              <a:rPr b="0" i="1" lang="en-US" sz="3000" spc="-1" strike="noStrike">
                <a:solidFill>
                  <a:srgbClr val="660033"/>
                </a:solidFill>
                <a:latin typeface="Verdana"/>
              </a:rPr>
              <a:t>ZMARŁ:</a:t>
            </a:r>
            <a:br>
              <a:rPr sz="3000"/>
            </a:b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       15 listopada 1916 w Vevey (Szwajcaria)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Dzieła Henryka Sienkiewicza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„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Na marne" (1872) - powieść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Humoreski z teki Worszyłły" (1872-73) - nowel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Sielanka" (1875) - opowiadani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Stary sługa" (1875) - opowiadani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Hania" (1880) - opowiadanie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Listy z podróży do Ameryki” (1876-78) </a:t>
            </a:r>
            <a:br>
              <a:rPr sz="2100"/>
            </a:b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      "Szkice węglem" (1880)</a:t>
            </a:r>
            <a:r>
              <a:rPr b="0" lang="en-US" sz="2100" spc="-1" strike="noStrike" u="sng">
                <a:solidFill>
                  <a:srgbClr val="336699"/>
                </a:solidFill>
                <a:uFillTx/>
                <a:latin typeface="Verdana"/>
                <a:hlinkClick r:id="rId2"/>
              </a:rPr>
              <a:t> </a:t>
            </a:r>
            <a:br>
              <a:rPr sz="2100"/>
            </a:b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      "Za chlebem"(1880)     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       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Bartek Zwycięzca"(1882)      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"Janko Muzykant" </a:t>
            </a:r>
            <a:r>
              <a:rPr b="0" lang="en-US" sz="2100" spc="-1" strike="noStrike" u="sng">
                <a:solidFill>
                  <a:srgbClr val="336699"/>
                </a:solidFill>
                <a:uFillTx/>
                <a:latin typeface="Verdana"/>
                <a:hlinkClick r:id="rId3"/>
              </a:rPr>
              <a:t> </a:t>
            </a: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(1880)</a:t>
            </a:r>
            <a:br>
              <a:rPr sz="2100"/>
            </a:br>
            <a:r>
              <a:rPr b="0" lang="en-US" sz="2100" spc="-1" strike="noStrike" u="sng">
                <a:solidFill>
                  <a:srgbClr val="000000"/>
                </a:solidFill>
                <a:uFillTx/>
                <a:latin typeface="Verdana"/>
              </a:rPr>
              <a:t>      "Latarnik" (1882)</a:t>
            </a:r>
            <a:r>
              <a:rPr b="0" lang="en-US" sz="2100" spc="-1" strike="noStrike" u="sng">
                <a:solidFill>
                  <a:srgbClr val="336699"/>
                </a:solidFill>
                <a:uFillTx/>
                <a:latin typeface="Verdana"/>
                <a:hlinkClick r:id="rId4"/>
              </a:rPr>
              <a:t> </a:t>
            </a:r>
            <a:br>
              <a:rPr sz="2100"/>
            </a:b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checker dir="ver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9T14:50:38Z</dcterms:created>
  <dc:creator>bstefanska</dc:creator>
  <dc:description/>
  <dc:language>en-US</dc:language>
  <cp:lastModifiedBy>Bożena</cp:lastModifiedBy>
  <dcterms:modified xsi:type="dcterms:W3CDTF">2003-04-16T19:30:08Z</dcterms:modified>
  <cp:revision>44</cp:revision>
  <dc:subject/>
  <dc:title>Polscy nobliści</dc:title>
</cp:coreProperties>
</file>